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F17E0-9DB0-4211-A688-7534547EBE5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E434C-0C4F-46F6-91AE-B14C703F7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FE3CF-4DA1-4183-8E85-3E5A3772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E6DB6-F967-4B6E-84C7-9A2F1F4E86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4CBC1-8B48-4C36-A72A-419EFBECD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29642-2D28-4513-A4C3-A69DA85FE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507CC-5177-4A58-BCDC-C2CDE4F44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A516D-2A48-41CE-8EF2-CA25FDD0D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168C0-558F-4BAA-8AC4-462FDD64B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7B6AA-534D-45D4-9785-E9C078415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9BC3E-CA45-4E12-B71A-54350FA07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E50EE-0147-4642-B5A3-877FDAAF8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DECA8-191A-4C3F-B845-BD695232D62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十五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妊娠滋养细胞疾病   患者的护理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56760" y="157176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心理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葡萄胎确诊后应及时清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刮出物送组织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其他   如黄素化囊肿急性扭转可手术切除。高危者给予预防性化疗。年龄较大且无生育要求者可行子宫切除术，保留双侧卵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42560" y="1500120"/>
            <a:ext cx="90010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护理诊断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合作性问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营养失调：低于机体需要量   与化疗所致的恶心、呕吐和食欲下降等消化道反应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有感染的危险   与化疗引起骨髓抑制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潜在并发症：出血   与化疗引起骨髓抑制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有口腔黏膜改变的危险   与化疗所致溃疡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自我形象紊乱   与化疗所致的脱发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85480" y="1371600"/>
            <a:ext cx="862956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措施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一般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严密观察病情变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预防感染 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症状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做好清宫术前后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预防性化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健康教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预防感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生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 随访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随访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随访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-142920" y="250020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d0d0d"/>
                </a:solidFill>
                <a:latin typeface="Verdana"/>
                <a:ea typeface="宋体"/>
              </a:rPr>
              <a:t>                  </a:t>
            </a:r>
            <a:r>
              <a:rPr b="1" lang="zh-CN" sz="3000" spc="-1" strike="noStrike">
                <a:solidFill>
                  <a:srgbClr val="0d0d0d"/>
                </a:solidFill>
                <a:latin typeface="Verdana"/>
                <a:ea typeface="宋体"/>
              </a:rPr>
              <a:t>第二节     妊娠滋养细胞肿瘤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674E6-D6FD-4693-BBA3-4FC5AEE5A9B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71320" y="1000080"/>
            <a:ext cx="81961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妊娠滋养细胞肿瘤是滋养细胞恶性病变，包括侵蚀性葡萄胎、绒癌和胎盘部位滋养细胞肿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侵蚀性葡萄胎是指葡 萄胎组织侵入子宫肌层引起组织破坏或转移至子宫以 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绒毛膜癌是一种高度恶 性的肿瘤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0%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发生于葡萄胎之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5" name="Picture 6" descr="1"/>
          <p:cNvPicPr/>
          <p:nvPr/>
        </p:nvPicPr>
        <p:blipFill>
          <a:blip r:embed="rId1"/>
          <a:stretch/>
        </p:blipFill>
        <p:spPr>
          <a:xfrm>
            <a:off x="6643800" y="4929120"/>
            <a:ext cx="1357200" cy="15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A8CBA-BA3B-4656-912B-A2D44BE187C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原发灶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不规则阴道流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子宫复旧不全或不均匀增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卵巢黄素化囊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其他  如腹痛、假孕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BCCCE-C9F6-41D3-A99A-4BF0622D66C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转移灶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肺转移    咳嗽或反复咯血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阴道转移    紫蓝色结节，破溃后可大出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肝转移    可有上腹部或肝区疼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脑转移    为死亡的主要原因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F2186-1CA3-4B0C-9BEB-50C2966CA58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血和尿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β-HCG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测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胸部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X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超声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T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MRI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组织学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B61BF-A29F-42C5-8465-03DFA22B399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与疾病相关的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年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月经及妊娠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既往史及家族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其他  如服用药物情况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葡萄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妊娠滋养细胞肿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化疗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763640" y="3141720"/>
            <a:ext cx="687600" cy="593640"/>
          </a:xfrm>
          <a:prstGeom prst="hexagon">
            <a:avLst>
              <a:gd name="adj" fmla="val 28957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35280" y="4005360"/>
            <a:ext cx="686880" cy="593640"/>
            <a:chOff x="1835280" y="4005360"/>
            <a:chExt cx="68688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40680" y="401544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35280" y="400536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75240" y="404028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9640" y="407664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716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5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24577-8814-4668-9E13-34D011A63C4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心理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原则是以化疗为主，手术、放疗为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根据临床分期、预后评分来制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EF366-8B44-4F6A-92FB-225FB8783E3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护理诊断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合作性问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有感染的危险   与反复阴道出血、化疗导致抵抗力降低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预感性悲哀   与病程长、预后不良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活动无耐力  与腹痛、转移灶症状及化疗副作用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营养失调   与化疗引起胃肠道不适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FE944-F0D8-42E3-8345-1E1CDB6621E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措施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一般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 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 观察病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症状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肺转移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卧床休息，吸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配合治疗，大量咯血者防窒息和休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观察病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56760" y="19807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阴道转移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卧床休息，做好抢救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禁做阴道检查和窥阴器检查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破溃大出血时，配合抢救（抗休克和感染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B4D64-2BBF-47A8-9A5F-87343B63774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脑转移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病情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遵医嘱治疗   如补液、止血、吸氧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预防并发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偏瘫、昏迷者按常规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及时做好检查配合    如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腰穿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0525E-AB78-4CD1-9D0F-D86416A1D6B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健康教育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生活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随访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-142920" y="250020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d0d0d"/>
                </a:solidFill>
                <a:latin typeface="Verdana"/>
                <a:ea typeface="宋体"/>
              </a:rPr>
              <a:t>                  </a:t>
            </a:r>
            <a:r>
              <a:rPr b="1" lang="zh-CN" sz="3000" spc="-1" strike="noStrike">
                <a:solidFill>
                  <a:srgbClr val="0d0d0d"/>
                </a:solidFill>
                <a:latin typeface="Verdana"/>
                <a:ea typeface="宋体"/>
              </a:rPr>
              <a:t>第三节     化疗患者的护理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ED8E0-7DD1-4DB1-8E18-6BC158FEF1C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化学药物治疗的方法称为化学疗法，简称化疗。化疗和手术治疗、放射治疗是目前治疗恶性肿瘤的三大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妊娠滋养细胞疾病是所有肿瘤中对化疗最敏感的一种，总治愈率超过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9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12402-11C4-497F-84E7-49F24B562DE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化疗药物作用机制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影响去氧核糖核酸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合成代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直接与核糖核酸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作用干扰其复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抑制信使核糖核酸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合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阻止纺锤丝的形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阻止蛋白质的合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AA285-D127-4119-BFB3-78EC2DCC81D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概  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85840" y="1071360"/>
            <a:ext cx="83390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妊娠滋养细胞疾病是一组来源于胎盘绒毛滋养细胞的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滋养细胞增生的程度、侵蚀能力、有无绒毛结构及生物学特性，可分为葡萄胎、侵蚀性葡萄胎、绒毛膜癌和胎盘部位妊娠滋养细胞肿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4997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化疗药物种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烷化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抗代谢药物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抗肿瘤抗生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抗肿瘤植物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化疗药物的应用原则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根据肿瘤的病理诊断和分期化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根据肿瘤细胞的分裂周期化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根据患者的身体情况选择化疗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使用增敏药物和预防副作用的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化疗方案的选择需考虑患者的经济情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给药方法及化疗方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给药方法    静脉滴注、肌内注射、口服给药、腹腔内给药及动脉插管局部灌注、靶向治疗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化疗方案    低危患者可选单一药物化疗；高危者选择联合化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3B7CF-76B7-4623-B56F-E5E2395AFB8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71680" y="1356840"/>
            <a:ext cx="80532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化疗常见的不良反应及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近期毒性反应   分为局部反应和全身性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远期毒性反应   如生殖功能障碍及致癌致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并发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B2226-8086-4185-A225-56790E6A9BE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57120" y="1857240"/>
            <a:ext cx="83390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化疗前血常规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肝、肾功能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其他检查    如尿常规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84ACA-3B89-4837-B77C-4B898BB7C9E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99680" y="1857240"/>
            <a:ext cx="819612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与疾病相关的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体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饮食与生活习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既往病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家族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其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心理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D38EB-892B-4DAE-98BB-4480E58EF29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-360" y="1857240"/>
            <a:ext cx="90010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护理问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合作性问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营养失调：低于机体需要量  与化疗所致的恶心、呕吐和食欲下降等消化道反应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有感染的危险   与化疗引起骨髓抑制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自我形象紊乱   与化疗所致的脱发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潜在并发症：出血   与化疗引起骨髓抑制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2FCBD-F0E9-4791-8314-CED39D28220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286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措施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一般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多休息，注意饮食；保持会阴清洁，防止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严密观察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 接受化疗患者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准确测量体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正确使用药物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合理使用静脉血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32549-3E8A-47DC-9DCC-9EF4BE0DE83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常见毒副反应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骨髓抑制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胃肠道不良反应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口腔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-142920" y="250020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d0d0d"/>
                </a:solidFill>
                <a:latin typeface="Verdana"/>
                <a:ea typeface="宋体"/>
              </a:rPr>
              <a:t>                     </a:t>
            </a:r>
            <a:r>
              <a:rPr b="1" lang="zh-CN" sz="3600" spc="-1" strike="noStrike">
                <a:solidFill>
                  <a:srgbClr val="0d0d0d"/>
                </a:solidFill>
                <a:latin typeface="Verdana"/>
                <a:ea typeface="宋体"/>
              </a:rPr>
              <a:t>第一节     葡萄胎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E05AE-C6C5-40FD-8ECA-8C0F165F46D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-360" y="1500120"/>
            <a:ext cx="8929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三）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指导患者给药剂量等，注意药物的储存及不良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鼓励少量多餐，注意饮食和休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日常生活方面注意清洁，尽量避免去公共场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如白细胞计数低于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0×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则需进行保护性隔离，并告知其重要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AC3AB-08FF-4534-8778-6C011D61212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85480" y="857160"/>
            <a:ext cx="864396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葡萄胎是妊娠滋养细胞的良性病变，主要为胎盘绒毛滋养细胞增生、间质水肿，形成大小不一的水泡，相互间借蒂连成串，形如葡萄而得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葡萄胎可分为完全性葡萄胎和部分性葡萄胎。其发生的原因尚未完全清楚，可能与异常受精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2" name="Picture 1" descr=""/>
          <p:cNvPicPr/>
          <p:nvPr/>
        </p:nvPicPr>
        <p:blipFill>
          <a:blip r:embed="rId1"/>
          <a:stretch/>
        </p:blipFill>
        <p:spPr>
          <a:xfrm>
            <a:off x="1857240" y="4857840"/>
            <a:ext cx="1857600" cy="1627200"/>
          </a:xfrm>
          <a:prstGeom prst="rect">
            <a:avLst/>
          </a:prstGeom>
          <a:ln w="0">
            <a:noFill/>
          </a:ln>
        </p:spPr>
      </p:pic>
      <p:grpSp>
        <p:nvGrpSpPr>
          <p:cNvPr id="133" name="Group 3"/>
          <p:cNvGrpSpPr/>
          <p:nvPr/>
        </p:nvGrpSpPr>
        <p:grpSpPr>
          <a:xfrm>
            <a:off x="5572080" y="4786200"/>
            <a:ext cx="2000160" cy="1698840"/>
            <a:chOff x="5572080" y="4786200"/>
            <a:chExt cx="2000160" cy="1698840"/>
          </a:xfrm>
        </p:grpSpPr>
        <p:sp>
          <p:nvSpPr>
            <p:cNvPr id="134" name="Text Box 4"/>
            <p:cNvSpPr/>
            <p:nvPr/>
          </p:nvSpPr>
          <p:spPr>
            <a:xfrm>
              <a:off x="5771880" y="6276240"/>
              <a:ext cx="1650240" cy="20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46ca6"/>
                  </a:solidFill>
                  <a:latin typeface="Calibri"/>
                  <a:ea typeface="宋体"/>
                </a:rPr>
                <a:t>图</a:t>
              </a:r>
              <a:r>
                <a:rPr b="0" lang="en-US" sz="1200" spc="-1" strike="noStrike">
                  <a:solidFill>
                    <a:srgbClr val="046ca6"/>
                  </a:solidFill>
                  <a:latin typeface="Calibri"/>
                  <a:ea typeface="宋体"/>
                </a:rPr>
                <a:t>15-2  </a:t>
              </a:r>
              <a:r>
                <a:rPr b="0" lang="zh-CN" sz="12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完全性葡萄胎</a:t>
              </a:r>
              <a:endParaRPr b="0" lang="en-US" sz="1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135" name="Picture 5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5572080" y="4786200"/>
              <a:ext cx="2000160" cy="1450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85E15-9999-45AB-8F99-768DC619A9A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9680" y="1428480"/>
            <a:ext cx="81248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完全性葡萄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停经后阴道流血     为最常见的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子宫异常增大、变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妊娠呕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妊娠高血压子痫前期征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其他：卵巢黄素化囊肿、腹痛、甲亢征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85840" y="1571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部分性葡萄胎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阴道流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其他症状    不如完全性葡萄胎典型，易误诊，仅在刮宫后经组织病理检查方能确诊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26895-CD01-442E-86AB-5FB959C22B1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99680" y="1642680"/>
            <a:ext cx="8196120" cy="46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绒毛膜促性腺激素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CG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测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超声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流式细胞仪测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多普勒胎心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其他    如血常规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56760" y="142884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与疾病相关的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年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月经及妊娠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饮食习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家族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其他   如有无采取口服避孕方式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1T09:11:27Z</dcterms:modified>
  <cp:revision>10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